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B32-95F6-421F-9A6A-6732657E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4FA-2D33-453D-9528-6043D5AE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2C2-60B0-4682-A341-777C438A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4C8-594F-4768-8099-4CAB2A5E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8F8-EE8A-473D-B6DD-34BE7A1B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55D-4F4A-4C8E-BD10-FD145AAA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A17-CB6A-46DF-8027-C90CE8C6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D28-89C3-416A-9C01-8CAE8866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767-5C74-4CF0-A59B-E4241E26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2E1-54FF-4D85-93F7-0003BDE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342-C42F-4B1B-91F6-95FB18E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526-E523-4A21-BDDE-8A41862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4E4A-53C6-496D-9AE5-7B1841412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1905120"/>
            <a:ext cx="65530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段階の戦い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69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comic"/>
                <a:ea typeface="新細明體"/>
              </a:rPr>
              <a:t>安全階段戰鬥您需要別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3809880"/>
            <a:ext cx="4334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Old English Text MT"/>
              </a:rPr>
              <a:t>Safe stage fighting do you need anything el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Stage Figh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Old English Text MT"/>
              </a:rPr>
              <a:t>Safe stage fighting do you need anything el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5:35:43Z</dcterms:created>
  <dc:creator> </dc:creator>
  <dc:description/>
  <dc:language>en-US</dc:language>
  <cp:lastModifiedBy> </cp:lastModifiedBy>
  <dcterms:modified xsi:type="dcterms:W3CDTF">2009-09-17T15:35:03Z</dcterms:modified>
  <cp:revision>9</cp:revision>
  <dc:subject/>
  <dc:title>Slide 1</dc:title>
</cp:coreProperties>
</file>